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0360" y="-504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352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0360" y="881352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3DCFF8F-E635-4591-B76D-5FCCC30885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59480" y="883620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999E4D5D-DFDF-4DBF-83B7-F3E0926E1AFE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6920" y="704880"/>
            <a:ext cx="4619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892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3E1CB08-79B9-4CFD-A497-CA88D783B8C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2B6AB8D-D2D0-4EF2-9CFB-A06A7FB54DC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6B2BFFBA-A30F-47EB-9214-05456A80FA9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D997EF28-AC79-4ADC-AEF1-090E064F7B4E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6840" y="1120680"/>
            <a:ext cx="73137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10: Summary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You Were He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systems that depend on software is among the most challenging technical endeavors of our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job of the software development team is to develop and deliver a quality product within cost and schedule constrai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achieve this objective, we must learn to use a disciplined approach to software develop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You’ve Learne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course, you were introduced to disciplined methods for producing softw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Softwar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Softwar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learned how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nd use a personal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historical process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the quality of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seen the potential benefi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235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now prepared to apply what you’ve learned as a member of an integrated product development team that is using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and TSP can provide you and your fellow team members with a rewarding and satisfying project experi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itments that you can make and ke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tep is up to you!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ass 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ease complete the evaluation shee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forms now and give them to an instruct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areas for course improv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ent on the fac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the instructors and materi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course additions and dele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 areas where the timing was too slow or fa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expect to have ideas later, please take another copy of the evaluation form and send it to 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4240" y="448920"/>
            <a:ext cx="7415280" cy="7318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4000" bIns="54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6800" y="1760400"/>
            <a:ext cx="7559640" cy="488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7520" bIns="47520" anchor="t">
            <a:normAutofit/>
          </a:bodyPr>
          <a:p>
            <a:pPr marL="131760" indent="-131760">
              <a:lnSpc>
                <a:spcPct val="90000"/>
              </a:lnSpc>
              <a:tabLst>
                <a:tab algn="l" pos="0"/>
                <a:tab algn="l" pos="1100160"/>
                <a:tab algn="l" pos="2200320"/>
                <a:tab algn="l" pos="3300480"/>
                <a:tab algn="l" pos="4400640"/>
                <a:tab algn="l" pos="5500800"/>
                <a:tab algn="l" pos="6600960"/>
                <a:tab algn="l" pos="7701120"/>
                <a:tab algn="l" pos="8801280"/>
                <a:tab algn="l" pos="9901080"/>
              </a:tabLst>
            </a:pPr>
            <a:r>
              <a:rPr b="0" lang="en-US" sz="9900" spc="-1" strike="noStrike">
                <a:solidFill>
                  <a:srgbClr val="9c2108"/>
                </a:solidFill>
                <a:latin typeface="Arial"/>
              </a:rPr>
              <a:t>Thank You</a:t>
            </a:r>
            <a:endParaRPr b="0" lang="en-US" sz="99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1-10T21:30:08Z</cp:lastPrinted>
  <dcterms:modified xsi:type="dcterms:W3CDTF">2018-09-06T00:16:08Z</dcterms:modified>
  <cp:revision>79</cp:revision>
  <dc:subject/>
  <dc:title>No Slide Title</dc:title>
</cp:coreProperties>
</file>